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move the slid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ftr" idx="26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 type="sldNum" idx="27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E006-31B7-4913-A723-902E404F1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6CCB-6B48-4207-9C5D-455A82FFFF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5075-6320-42BC-9D90-71C5FB29C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A505-5887-4C77-B289-BFA19D61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D30D-0D9C-4056-B096-D16E13916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C90E-BBCF-47A9-BCC9-B0A54B386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79FD-E9AB-4367-8942-5FC324ABC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511D-B6A7-4100-AC63-587BA27F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56E5-672C-45EA-9DCD-88C3503F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3DE8-D054-4086-AF83-24A6FA84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3C493-8904-4A8A-A281-5DE357A4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4BFF-2339-471B-8EA1-436A4A32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1E25-058F-41B9-A024-D85AB11E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3848-FBF9-4DA4-BC4D-C32FC6EF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209B-41E8-4D74-951C-EC86DB39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BBD0-5206-43D5-9F33-DCFE12A5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0775-2320-452B-A6DC-5ACF5924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9F35-D6AE-45A5-93F0-9E945B47C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30A5-F7B5-4F32-B0A1-CA3DD388E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A61E2-99D6-4849-9CF6-DE28D3B5F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89ADE-8E7C-4959-8A27-6776C075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1B082-2790-4224-9126-21F7F204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60D6E-5BCF-48AD-818E-E160EB15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82AF7-752D-4AA5-9FF9-938F454F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1290-CEA5-45FF-AD6A-E4DB0E33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431A3-D18C-41F8-98A9-6AD0253A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AFF38-0A1C-4AC9-9159-CB164BD0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15752-88C5-4BD0-A231-186C9155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6DB07-CD1C-4996-8F51-CFD8BB92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12C8D-EC83-47E6-A3E7-E65527D3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F79C7-9AF9-4D4F-9D39-5FAC7855E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DEAC0-7BF4-46A5-ABB7-9CD9FF39C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43FE8-E10C-485F-893A-1F9023B7E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20437-97B1-4701-A27E-E9532D59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E937C-D0EE-4AE0-884D-6359C2F5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B266-57A8-47E7-B229-D9C39AFD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B86B6-BE1F-4D9A-B711-21169678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B70EE-336C-4E2B-B901-11FF95A8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E1ACF-5851-4CE6-9F4F-361184C8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750CD-6A8E-4D40-A19F-20DC69DF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02280-1A13-4FD6-AF70-F5219DB3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5862A-0C71-451D-9807-A638CC43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1CC04-3C9F-4E0B-A286-B639021E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B8FFD-5A80-4482-96F8-C4C847750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92EF4-D134-46B6-99D7-440B902DE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86A62-0BF4-4404-B58F-6B1E7346C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FCD1-BC91-49D4-8EE4-CA32D875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CFCEF-1B0E-4C70-BCED-1BEEFFAE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3213E-DB14-43FD-A7CC-42BEECF3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1C9E0-43C6-4179-8837-A762372B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AC56E-FF6A-4120-9745-88858B67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2A430-1010-446E-9E94-73437359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484B1-53A3-4897-BD90-3D289E4B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E680E-735F-421E-ADAF-7BB7A97F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715CA-2BBC-48B9-8C07-D942A24B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C6EBB-8F69-4F60-8773-BCD2F02C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0E71C-B231-4073-9D38-7DD712F09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E904-A9A3-4BCC-81FB-A99EEB3A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879CB-1DE4-4794-AE77-E1D530EA3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6F48D-AB54-454E-9D07-722354802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13EF6-7C47-4413-AB24-977672F1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E645A-F408-46BA-8287-FE69B9AB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327E0-26BB-4869-A16E-C2D8AE6B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145FC-E2E9-4F69-A89F-D1195C57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702FB-871C-495E-BF21-259174E5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7236A-52C0-4FA7-8AAC-C1024C08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77C04-E159-464C-A3A0-53A60066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06A55-1949-4F82-ADBC-D9BB70A8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873E-2B0D-4426-9D2C-EDDCA33D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D45A7-BDF5-4EC7-A002-C1A46C7B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4BB43-45CE-47DD-BDEA-1C795C2AC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509C7-42E0-482B-807D-9CAE050D2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2AEDA2-FBCE-423A-A48A-CCBBE1BF1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E19952-464B-4CC3-BDE1-C4CB94DB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CE7822-71FC-428C-92C4-3BE5525D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501ECE-077A-4996-83E4-ED7F93D9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061D1E-92EE-4955-8FA3-E8A6AB44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43BBC7-38A6-4D98-B462-E7F8E99C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9CC527-E058-4C59-BC8E-BBB8282B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0B12-2B13-4E94-80D2-449BF203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8D0ACE-59AE-42EB-B17F-3655111B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6F01DD-C2FB-4FF2-BD8A-6237CC51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A42525-0B9E-499F-8B65-9B1BDDB3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7C26EB-5F05-42B0-8BBF-3EB6E20F1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05FF1E-6CC2-402C-82B6-B2A82C7C4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63764-EE00-4BE2-BBE4-0D3E20456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FD567-D5DF-4A44-B369-3AF78EF5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CB5EB-6C8A-4365-ADEB-4821F019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306FD-0FEC-4CE4-B867-3CD22A52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0C5DF-496C-4694-9105-262A2DD3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CAA1-A607-47AF-B196-6E8D0421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5D34E-D3CB-4F11-9791-289F3991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161E1-C903-4DDB-A0E6-16ADC7E6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73F67-B1F7-418D-8FFF-D9E83FEE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CF63D-E2E7-4D10-8B76-F00C677E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13EDA-DF01-4CCD-BFF1-4DCA526C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DCB00-95ED-4DC5-B796-F68649E3A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F994B-C1C3-4D5D-A808-7271A985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2F13-322C-4779-AFA1-7147679CD2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48D1-5AD9-4BCF-BDBC-E75A4F66143A}" type="datetime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5802-E909-4969-A031-E52D25FD147E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Rectangle 8"/>
          <p:cNvGrpSpPr/>
          <p:nvPr/>
        </p:nvGrpSpPr>
        <p:grpSpPr>
          <a:xfrm>
            <a:off x="268200" y="274680"/>
            <a:ext cx="8607600" cy="1334880"/>
            <a:chOff x="268200" y="274680"/>
            <a:chExt cx="8607600" cy="1334880"/>
          </a:xfrm>
        </p:grpSpPr>
        <p:pic>
          <p:nvPicPr>
            <p:cNvPr id="48" name="Rectangle 8" descr=""/>
            <p:cNvPicPr/>
            <p:nvPr/>
          </p:nvPicPr>
          <p:blipFill>
            <a:blip r:embed="rId3"/>
            <a:stretch/>
          </p:blipFill>
          <p:spPr>
            <a:xfrm>
              <a:off x="268200" y="274680"/>
              <a:ext cx="8607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74680" y="277920"/>
              <a:ext cx="859464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Rectangle 8"/>
          <p:cNvGrpSpPr/>
          <p:nvPr/>
        </p:nvGrpSpPr>
        <p:grpSpPr>
          <a:xfrm>
            <a:off x="341280" y="2938320"/>
            <a:ext cx="7156440" cy="2475000"/>
            <a:chOff x="341280" y="2938320"/>
            <a:chExt cx="7156440" cy="2475000"/>
          </a:xfrm>
        </p:grpSpPr>
        <p:pic>
          <p:nvPicPr>
            <p:cNvPr id="91" name="Rectangle 8" descr=""/>
            <p:cNvPicPr/>
            <p:nvPr/>
          </p:nvPicPr>
          <p:blipFill>
            <a:blip r:embed="rId3"/>
            <a:stretch/>
          </p:blipFill>
          <p:spPr>
            <a:xfrm>
              <a:off x="341280" y="2938320"/>
              <a:ext cx="715644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45960" y="2943360"/>
              <a:ext cx="714708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Rectangle 11"/>
          <p:cNvGrpSpPr/>
          <p:nvPr/>
        </p:nvGrpSpPr>
        <p:grpSpPr>
          <a:xfrm>
            <a:off x="7564320" y="2938320"/>
            <a:ext cx="1208160" cy="2475000"/>
            <a:chOff x="7564320" y="2938320"/>
            <a:chExt cx="1208160" cy="2475000"/>
          </a:xfrm>
        </p:grpSpPr>
        <p:pic>
          <p:nvPicPr>
            <p:cNvPr id="94" name="Rectangle 11" descr=""/>
            <p:cNvPicPr/>
            <p:nvPr/>
          </p:nvPicPr>
          <p:blipFill>
            <a:blip r:embed="rId4"/>
            <a:stretch/>
          </p:blipFill>
          <p:spPr>
            <a:xfrm>
              <a:off x="7564320" y="2938320"/>
              <a:ext cx="120816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5BE9-49F5-4EDE-9077-F8D9042144BB}" type="datetime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47534c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3ED9-4585-4F93-8400-3C1228154391}" type="slidenum">
              <a:rPr b="0" lang="en-US" sz="2800" spc="-1" strike="noStrike">
                <a:solidFill>
                  <a:srgbClr val="47534c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" name="Rectangle 12"/>
          <p:cNvGrpSpPr/>
          <p:nvPr/>
        </p:nvGrpSpPr>
        <p:grpSpPr>
          <a:xfrm>
            <a:off x="444600" y="2938320"/>
            <a:ext cx="8278560" cy="2481480"/>
            <a:chOff x="444600" y="2938320"/>
            <a:chExt cx="8278560" cy="2481480"/>
          </a:xfrm>
        </p:grpSpPr>
        <p:pic>
          <p:nvPicPr>
            <p:cNvPr id="144" name="Rectangle 12" descr=""/>
            <p:cNvPicPr/>
            <p:nvPr/>
          </p:nvPicPr>
          <p:blipFill>
            <a:blip r:embed="rId3"/>
            <a:stretch/>
          </p:blipFill>
          <p:spPr>
            <a:xfrm>
              <a:off x="444600" y="2938320"/>
              <a:ext cx="8278560" cy="24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FF37-ECF8-42F6-85AD-86C63171F28A}" type="datetime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C462-724B-4BCB-ADA8-16908529A50C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A302-F39B-488C-9D1D-248A306260C9}" type="datetime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A7C1-305E-4405-A666-4CAF755A933B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Rectangle 7"/>
          <p:cNvGrpSpPr/>
          <p:nvPr/>
        </p:nvGrpSpPr>
        <p:grpSpPr>
          <a:xfrm>
            <a:off x="554040" y="1500120"/>
            <a:ext cx="2732040" cy="3535560"/>
            <a:chOff x="554040" y="1500120"/>
            <a:chExt cx="2732040" cy="3535560"/>
          </a:xfrm>
        </p:grpSpPr>
        <p:pic>
          <p:nvPicPr>
            <p:cNvPr id="236" name="Rectangle 7" descr=""/>
            <p:cNvPicPr/>
            <p:nvPr/>
          </p:nvPicPr>
          <p:blipFill>
            <a:blip r:embed="rId3"/>
            <a:stretch/>
          </p:blipFill>
          <p:spPr>
            <a:xfrm>
              <a:off x="554040" y="1500120"/>
              <a:ext cx="2732040" cy="353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8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1C5D-C6BD-4D67-8532-6767E37A7076}" type="datetime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B88E-CCF0-4469-8A8D-918A0B78B064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2" name="Rectangle 9"/>
          <p:cNvGrpSpPr/>
          <p:nvPr/>
        </p:nvGrpSpPr>
        <p:grpSpPr>
          <a:xfrm>
            <a:off x="682560" y="4950000"/>
            <a:ext cx="7785000" cy="1384200"/>
            <a:chOff x="682560" y="4950000"/>
            <a:chExt cx="7785000" cy="1384200"/>
          </a:xfrm>
        </p:grpSpPr>
        <p:pic>
          <p:nvPicPr>
            <p:cNvPr id="283" name="Rectangle 9" descr=""/>
            <p:cNvPicPr/>
            <p:nvPr/>
          </p:nvPicPr>
          <p:blipFill>
            <a:blip r:embed="rId3"/>
            <a:stretch/>
          </p:blipFill>
          <p:spPr>
            <a:xfrm>
              <a:off x="682560" y="4950000"/>
              <a:ext cx="778500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685800" y="4952880"/>
              <a:ext cx="77724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5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C64C-58CA-4CB1-8AA3-AC76D2BA3A03}" type="datetime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43AF-24E2-4EDE-ACE2-57842C2A1329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222D-CF91-4DE9-ABEA-D1CF64B87B2E}" type="datetime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FE0D-57EF-4DE6-9DEF-D05FEE1DBC6E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13960" y="1628280"/>
            <a:ext cx="76964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382d"/>
                </a:solidFill>
                <a:latin typeface="Book Antiqua"/>
              </a:rPr>
              <a:t>КОНЦЕПЦИЯ РАЗВИТИЯ </a:t>
            </a:r>
            <a:r>
              <a:rPr b="1" lang="en-US" sz="2400" spc="-1" strike="noStrike">
                <a:solidFill>
                  <a:srgbClr val="40382d"/>
                </a:solidFill>
                <a:latin typeface="Book Antiqua"/>
              </a:rPr>
              <a:t>Г</a:t>
            </a:r>
            <a:r>
              <a:rPr b="1" lang="en-US" sz="3600" spc="-1" strike="noStrike">
                <a:solidFill>
                  <a:srgbClr val="40382d"/>
                </a:solidFill>
                <a:latin typeface="Book Antiqua"/>
              </a:rPr>
              <a:t>.ВЛАДИКАВКАЗА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419640" y="2997360"/>
            <a:ext cx="2232000" cy="86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10512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c271b"/>
                </a:solidFill>
                <a:latin typeface="Century Gothic"/>
              </a:rPr>
              <a:t>«5</a:t>
            </a:r>
            <a:r>
              <a:rPr b="1" lang="en-US" sz="5400" spc="-1" strike="noStrike">
                <a:solidFill>
                  <a:srgbClr val="6c271b"/>
                </a:solidFill>
                <a:latin typeface="Century Gothic"/>
              </a:rPr>
              <a:t>x</a:t>
            </a:r>
            <a:r>
              <a:rPr b="1" lang="ru-RU" sz="5400" spc="-1" strike="noStrike">
                <a:solidFill>
                  <a:srgbClr val="6c271b"/>
                </a:solidFill>
                <a:latin typeface="Century Gothic"/>
              </a:rPr>
              <a:t>5»</a:t>
            </a:r>
            <a:endParaRPr b="0" lang="en-US" sz="5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1" name="TextBox 1"/>
          <p:cNvSpPr/>
          <p:nvPr/>
        </p:nvSpPr>
        <p:spPr>
          <a:xfrm>
            <a:off x="954000" y="4194000"/>
            <a:ext cx="741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достижений за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лет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благодаря которым Владикавказ станет привлекательне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9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5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5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84807"/>
                </a:solidFill>
                <a:latin typeface="Calibri"/>
              </a:rPr>
              <a:t>Строительство новых микрорайонов </a:t>
            </a:r>
            <a:br>
              <a:rPr sz="2000"/>
            </a:br>
            <a:r>
              <a:rPr b="1" lang="en-US" sz="2000" spc="-1" strike="noStrike">
                <a:solidFill>
                  <a:srgbClr val="984807"/>
                </a:solidFill>
                <a:latin typeface="Calibri"/>
              </a:rPr>
              <a:t>(Московский квартал, Новый город, Северный) </a:t>
            </a:r>
            <a:br>
              <a:rPr sz="2000"/>
            </a:br>
            <a:r>
              <a:rPr b="1" lang="en-US" sz="2000" spc="-1" strike="noStrike">
                <a:solidFill>
                  <a:srgbClr val="984807"/>
                </a:solidFill>
                <a:latin typeface="Calibri"/>
              </a:rPr>
              <a:t>с развитой инженерной и социальной инфраструктур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84807"/>
                </a:solidFill>
                <a:latin typeface="Calibri"/>
              </a:rPr>
              <a:t>Строительство микрорайонов (микрорайоны №31-32, микрорайон в поселке Карца) с развитой инженерной и социальной инфраструктур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3:14:09Z</dcterms:created>
  <dc:creator>Вера</dc:creator>
  <dc:description/>
  <dc:language>en-US</dc:language>
  <cp:lastModifiedBy>Вера</cp:lastModifiedBy>
  <dcterms:modified xsi:type="dcterms:W3CDTF">2013-04-17T07:48:32Z</dcterms:modified>
  <cp:revision>2</cp:revision>
  <dc:subject/>
  <dc:title>Концепция развития г.владикавказа</dc:title>
</cp:coreProperties>
</file>